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E3D-8DFC-4E8A-A42B-32F9AC73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390-2E3E-44DE-8387-17036736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FA1-8D7D-476F-A2E7-1C3B04EB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ED8-53F3-4DE8-93A7-74BEDF1F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2D5E-8F89-49CC-88BB-B03A5562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1ED4-3914-4E40-9A21-2B3B6E9A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D005-FADC-425E-955A-188E67B1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7191-EA1B-4BAB-924A-7C5A5463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449E-8E28-49F8-B87E-2C4F3866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A4B9-A95E-470B-8B1F-1D486A0E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EAE2-3C06-4067-B591-2AB96645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771-594B-47D6-880D-36C7AAA8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939D-BFA7-4445-B4BB-ABBB8471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38F5-1751-42DA-8AAA-3CC789F8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85F7-6D15-4C14-A0BE-D9723636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F10E-1CBA-4BBB-B541-E1B7C041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D0BA-3BAE-4108-B851-3B6A636E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118-2D4B-463D-9363-00C04350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963-5048-467D-8762-9EAF57FA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A66-A877-4F87-AA59-56701B71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E37-E771-4FE3-B2FC-78D168CD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C33-978F-42EE-9ABE-CCE5BF05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F46-FDCE-4C2C-816B-F93F287F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8E7-72CF-4DFB-A85E-F843C998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DF24-82A5-4FBD-A06A-12E8DE21E53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3EEA-63B2-4FA1-A669-334782E196C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61930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  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雷射近視手術</a:t>
            </a:r>
            <a:br>
              <a:rPr sz="4800"/>
            </a:b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前、中、後保養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諾貝爾醫療集團 執行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諾貝爾眼科診所 院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張朝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手術後後遺症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欠缺矯正及回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過度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規則散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角膜混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角膜發炎或潰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你要明白</a:t>
            </a: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--</a:t>
            </a: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雷射手術前中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手術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充份了解手術過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先接受過完整的評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需有精準的驗光確定度數、角膜厚度、瞳孔大小、角膜地圖、角膜弧度、淚液分泌、散瞳後的數度等數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雷射手術術前十項檢查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3754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散瞳前度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角膜弧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眼壓測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角膜地圖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眼鏡度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最佳矯正視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角膜厚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淚液測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散瞳後度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眼底鏡檢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 rot="10800000">
            <a:off x="4282920" y="1552320"/>
            <a:ext cx="338616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檢查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鐘，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查完成後，與醫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討論矯正度數，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前檢查當天因需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瞳，故勿騎機車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開車，盡量搭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眾交通工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傳統近視手術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49055"/>
          <a:stretch/>
        </p:blipFill>
        <p:spPr>
          <a:xfrm>
            <a:off x="539640" y="1773360"/>
            <a:ext cx="8088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飛秒激光雷射手術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49055" r="0" b="0"/>
          <a:stretch/>
        </p:blipFill>
        <p:spPr>
          <a:xfrm>
            <a:off x="539640" y="1844640"/>
            <a:ext cx="8136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手術後注意事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手術後當天，可能有稍微流淚、異物感、畏光、視力仍呈現模糊狀態等症狀，無須過度緊張，約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-6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小時後會逐漸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睡覺休息後將會明顯改善，隔天症狀會消失，看遠祼視力在一天後會顯著進步，度數高的人可能會稍慢一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術後外出時，戴上護目鏡或平光眼鏡，避免風吹及陽光曝曬，絕不可自行駕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手術後注意事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術後用藥：一般會給眼藥水或口服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類固醇眼藥水：幫助傷口癒合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抗生素眼藥水：預防傷口發炎及感染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人工淚液：改善眼睛乾澀的狀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回診時間：定期回診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通常在術後隔天、一週、二週後一次覆診、滿一個月後可隔二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~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三週再回診一次直到三個月後視力穩定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術後保養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前三天於夜間睡眠時貼帶眼罩，避免睡眠時壓迫或揉到角膜並需注意個人衛生，盡量避免用雙手觸碰眼睛防止細菌感染或角膜移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長期注意事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雷射視力矯正，不會增加視網膜剝離，但近視度數高的人是視網膜剝離的高危險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眼前飛蚊黑點大量增加，視野產生暗影飄動，或視力突然下降，時好時壞，視物變形時，即有視網膜剝離之可能，須立即治療不可拖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手術後外出不適應症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乾眼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眩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畏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視力浮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眼壓增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5:42:04Z</dcterms:created>
  <dc:creator>SuperXP</dc:creator>
  <dc:description/>
  <dc:language>en-US</dc:language>
  <cp:lastModifiedBy>SuperXP</cp:lastModifiedBy>
  <dcterms:modified xsi:type="dcterms:W3CDTF">2007-07-05T06:17:06Z</dcterms:modified>
  <cp:revision>20</cp:revision>
  <dc:subject/>
  <dc:title>  雷射近視手術 前、中、後保養</dc:title>
</cp:coreProperties>
</file>